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2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A1F-FF0C-4233-9D39-847EEBF0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F07-05BA-41A0-B929-1DD8E5A1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DDB-F1D6-47E3-A223-E7C20842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F86-3955-40FB-95C3-355B063E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5E8-39EE-49B0-A154-9E39F3C6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B38-D86E-4B5B-B8F1-6497FA46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FFA-D0B5-4C47-954A-82E2997E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2EFF-9A61-4EBC-A806-6DF05CE0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C95-379B-433B-8C29-081E99F6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451-CDB7-42CF-A912-2557520C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8497-1A78-4880-A1A9-B71453B4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E94-4E72-4C88-89B4-0F8F53B3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62C9-AB7F-4A5A-B9AE-2070F2601B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limsite.kz/kazakh_tili/3883-kazak-halkynyn-ulttyk-kiimderi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Картинки по запросу ою"/>
          <p:cNvPicPr/>
          <p:nvPr/>
        </p:nvPicPr>
        <p:blipFill>
          <a:blip r:embed="rId1"/>
          <a:stretch/>
        </p:blipFill>
        <p:spPr>
          <a:xfrm>
            <a:off x="395280" y="1197000"/>
            <a:ext cx="3002040" cy="4896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6116760" cy="1470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cc"/>
                </a:solidFill>
                <a:latin typeface="Times New Roman"/>
              </a:rPr>
              <a:t>Сабақтың тақырыбы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0920" y="4292280"/>
            <a:ext cx="6400800" cy="86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cc"/>
                </a:solidFill>
                <a:latin typeface="Times New Roman"/>
              </a:rPr>
              <a:t>ҰЛТТЫҚ КИІМДЕ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user\Documents\Без названия (18).jpg"/>
          <p:cNvPicPr/>
          <p:nvPr/>
        </p:nvPicPr>
        <p:blipFill>
          <a:blip r:embed="rId1"/>
          <a:stretch/>
        </p:blipFill>
        <p:spPr>
          <a:xfrm>
            <a:off x="-6480" y="0"/>
            <a:ext cx="915696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1395360" y="1096920"/>
            <a:ext cx="6400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user\Documents\images (82).jpg"/>
          <p:cNvPicPr/>
          <p:nvPr/>
        </p:nvPicPr>
        <p:blipFill>
          <a:blip r:embed="rId1"/>
          <a:stretch/>
        </p:blipFill>
        <p:spPr>
          <a:xfrm>
            <a:off x="6300720" y="333360"/>
            <a:ext cx="2525760" cy="18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403280" y="2276640"/>
          <a:ext cx="6096240" cy="3976560"/>
        </p:xfrm>
        <a:graphic>
          <a:graphicData uri="http://schemas.openxmlformats.org/drawingml/2006/table">
            <a:tbl>
              <a:tblPr/>
              <a:tblGrid>
                <a:gridCol w="3095640"/>
                <a:gridCol w="3000600"/>
              </a:tblGrid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ған бәрі де түсінікт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ұрақтар пайда бол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98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 есте сақтад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үсінбеді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pic>
        <p:nvPicPr>
          <p:cNvPr id="78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85680"/>
            <a:ext cx="5900760" cy="1103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user\Documents\Без названия (33).jpg"/>
          <p:cNvPicPr/>
          <p:nvPr/>
        </p:nvPicPr>
        <p:blipFill>
          <a:blip r:embed="rId3"/>
          <a:stretch/>
        </p:blipFill>
        <p:spPr>
          <a:xfrm>
            <a:off x="3276720" y="3130560"/>
            <a:ext cx="1176120" cy="1090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user\Documents\Без названия (32).jpg"/>
          <p:cNvPicPr/>
          <p:nvPr/>
        </p:nvPicPr>
        <p:blipFill>
          <a:blip r:embed="rId4"/>
          <a:stretch/>
        </p:blipFill>
        <p:spPr>
          <a:xfrm>
            <a:off x="2556000" y="4857840"/>
            <a:ext cx="1928520" cy="14079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3" descr="C:\Users\user\Documents\images.jpgпп.jpg"/>
          <p:cNvPicPr/>
          <p:nvPr/>
        </p:nvPicPr>
        <p:blipFill>
          <a:blip r:embed="rId5"/>
          <a:stretch/>
        </p:blipFill>
        <p:spPr>
          <a:xfrm>
            <a:off x="5651640" y="4869000"/>
            <a:ext cx="1441440" cy="1199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C:\Users\user\Documents\images.jpgтттт.jpg"/>
          <p:cNvPicPr/>
          <p:nvPr/>
        </p:nvPicPr>
        <p:blipFill>
          <a:blip r:embed="rId6"/>
          <a:stretch/>
        </p:blipFill>
        <p:spPr>
          <a:xfrm>
            <a:off x="6443640" y="3141720"/>
            <a:ext cx="9064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ілімділік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қушыларға қазақ халқының ұлттық киімдері, олардың түрлері және пайдалану ерекшеліктері туралы түсінік беру; жаттығу жұмыстары арқылы зат есімнің жалғауларын (септік, тәуелдік) қайталау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мытушылық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оқушылардың ұлттық киім тарихын зерттеуге қызығушылығын, эстетикалық талғамын арттырып, ойын, қиялын дамыту. Алған білімдерін ізденіспен қолдана білуге, өз 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б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імен жұмыстануға дағдыландыру, байланыстырып сөйлеу қабілеттерін дамыту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әрбиелі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қазақ халқының тарихына, рухани мәдени ескерткіштеріне, ұлттық киімдеріне, салт - дәстүрі мен өнеріне, тілі мен әдебиетіне қызығушылықтарын арттыру және оларды құрметтеуге тәрбиеле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51280" y="765000"/>
            <a:ext cx="4821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Қазақ халқының киім - кешегі - ұлттық, тұрмыстық және рухани мәдениеттің бағалы ескерткіштерінің бірі. Одан қазақ халқының ұлттық ерекшеліктері, мәдени дәстүрлері, эстетикалық талғамы анық байқалады. Киімнің тігілуінен халық тұрмысының жай - күйі, мәдениетінің қалыптасуы, ғасырлар бойы жинаған еңбек тәжірибесі көрінеді. Ұлттық киімдер сәндеп кестеленеді, зергерлік және басқа әшекей заттармен әдіптеледі. Халық шеберлерінің көптеген қолтумалары өнердің өлмес туындыларына айналд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Картинки по запросу қазақтың ұлттық киімдері камзол"/>
          <p:cNvPicPr/>
          <p:nvPr/>
        </p:nvPicPr>
        <p:blipFill>
          <a:blip r:embed="rId1"/>
          <a:stretch/>
        </p:blipFill>
        <p:spPr>
          <a:xfrm>
            <a:off x="250920" y="765000"/>
            <a:ext cx="372276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user\Documents\slide_3.jpg"/>
          <p:cNvPicPr/>
          <p:nvPr/>
        </p:nvPicPr>
        <p:blipFill>
          <a:blip r:embed="rId1"/>
          <a:stretch/>
        </p:blipFill>
        <p:spPr>
          <a:xfrm>
            <a:off x="755640" y="404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Картинки по запросу топтық жұмыс түрлері"/>
          <p:cNvPicPr/>
          <p:nvPr/>
        </p:nvPicPr>
        <p:blipFill>
          <a:blip r:embed="rId1"/>
          <a:srcRect l="20429" t="23378" r="18269" b="14280"/>
          <a:stretch/>
        </p:blipFill>
        <p:spPr>
          <a:xfrm>
            <a:off x="2627280" y="1341360"/>
            <a:ext cx="3403800" cy="25923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5" descr=""/>
          <p:cNvPicPr/>
          <p:nvPr/>
        </p:nvPicPr>
        <p:blipFill>
          <a:blip r:embed="rId2"/>
          <a:stretch/>
        </p:blipFill>
        <p:spPr>
          <a:xfrm>
            <a:off x="1560600" y="158760"/>
            <a:ext cx="5645160" cy="11095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2195640" y="400536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Ұлттық бас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Ұлттық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Ұлттық аяқ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user\Documents\4846947af6613c16ec5cb0e3b64de744.png"/>
          <p:cNvPicPr/>
          <p:nvPr/>
        </p:nvPicPr>
        <p:blipFill>
          <a:blip r:embed="rId1"/>
          <a:stretch/>
        </p:blipFill>
        <p:spPr>
          <a:xfrm>
            <a:off x="5435640" y="549360"/>
            <a:ext cx="3024000" cy="35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bilim-all.kz/uploads/images/2015/05/01/original/00e41d34b176d228bf95a18c8d07dc88.jpg"/>
          <p:cNvPicPr/>
          <p:nvPr/>
        </p:nvPicPr>
        <p:blipFill>
          <a:blip r:embed="rId2"/>
          <a:stretch/>
        </p:blipFill>
        <p:spPr>
          <a:xfrm>
            <a:off x="1332000" y="1125360"/>
            <a:ext cx="2647800" cy="36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3780000" y="4005360"/>
            <a:ext cx="2808000" cy="25192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796680" y="476280"/>
            <a:ext cx="37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«Ұлттық бас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Картинки по запросу шапан"/>
          <p:cNvPicPr/>
          <p:nvPr/>
        </p:nvPicPr>
        <p:blipFill>
          <a:blip r:embed="rId1"/>
          <a:stretch/>
        </p:blipFill>
        <p:spPr>
          <a:xfrm>
            <a:off x="755640" y="907920"/>
            <a:ext cx="2319480" cy="3097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page-0012-2"/>
          <p:cNvPicPr/>
          <p:nvPr/>
        </p:nvPicPr>
        <p:blipFill>
          <a:blip r:embed="rId2"/>
          <a:stretch/>
        </p:blipFill>
        <p:spPr>
          <a:xfrm>
            <a:off x="6012000" y="2421000"/>
            <a:ext cx="2795400" cy="3235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Картинки по запросу тон, камзол"/>
          <p:cNvPicPr/>
          <p:nvPr/>
        </p:nvPicPr>
        <p:blipFill>
          <a:blip r:embed="rId3"/>
          <a:stretch/>
        </p:blipFill>
        <p:spPr>
          <a:xfrm>
            <a:off x="2627280" y="3213000"/>
            <a:ext cx="2198880" cy="3297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Картинки по запросу тон, камзол"/>
          <p:cNvPicPr/>
          <p:nvPr/>
        </p:nvPicPr>
        <p:blipFill>
          <a:blip r:embed="rId4"/>
          <a:stretch/>
        </p:blipFill>
        <p:spPr>
          <a:xfrm>
            <a:off x="3995640" y="404640"/>
            <a:ext cx="2360880" cy="31482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5382360" y="260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Ұлттық киі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C:\Users\user\Documents\Без названия (31).jpg"/>
          <p:cNvPicPr/>
          <p:nvPr/>
        </p:nvPicPr>
        <p:blipFill>
          <a:blip r:embed="rId1"/>
          <a:stretch/>
        </p:blipFill>
        <p:spPr>
          <a:xfrm>
            <a:off x="2843280" y="3357720"/>
            <a:ext cx="2971800" cy="222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user\Documents\Без названия (30).jpg"/>
          <p:cNvPicPr/>
          <p:nvPr/>
        </p:nvPicPr>
        <p:blipFill>
          <a:blip r:embed="rId2"/>
          <a:stretch/>
        </p:blipFill>
        <p:spPr>
          <a:xfrm>
            <a:off x="5256360" y="1916280"/>
            <a:ext cx="2782800" cy="1636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user\Documents\Без названия (29).jpg"/>
          <p:cNvPicPr/>
          <p:nvPr/>
        </p:nvPicPr>
        <p:blipFill>
          <a:blip r:embed="rId3"/>
          <a:srcRect l="0" t="0" r="38713" b="0"/>
          <a:stretch/>
        </p:blipFill>
        <p:spPr>
          <a:xfrm>
            <a:off x="900000" y="2349360"/>
            <a:ext cx="1944720" cy="23749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5"/>
          <p:cNvSpPr/>
          <p:nvPr/>
        </p:nvSpPr>
        <p:spPr>
          <a:xfrm>
            <a:off x="2312280" y="907920"/>
            <a:ext cx="42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Ұлттық аяқ киі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8" descr="Картинки по запросу топтық жұмыс"/>
          <p:cNvPicPr/>
          <p:nvPr/>
        </p:nvPicPr>
        <p:blipFill>
          <a:blip r:embed="rId1"/>
          <a:stretch/>
        </p:blipFill>
        <p:spPr>
          <a:xfrm>
            <a:off x="2408400" y="1262160"/>
            <a:ext cx="4187520" cy="30718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1" descr=""/>
          <p:cNvPicPr/>
          <p:nvPr/>
        </p:nvPicPr>
        <p:blipFill>
          <a:blip r:embed="rId2"/>
          <a:stretch/>
        </p:blipFill>
        <p:spPr>
          <a:xfrm>
            <a:off x="360360" y="4322880"/>
            <a:ext cx="84596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7-27T15:15:01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805000000000001024110</vt:lpwstr>
  </property>
</Properties>
</file>